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4FCE6-DD0A-4053-85BD-E906B3AC5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A2C60-73A1-486E-BC47-0C4EE0E56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73064-8B25-401E-90EE-19D064A0C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DBFC9-DC76-423A-B0DA-3FFDC1DA9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172B-4D30-4896-A4F6-07D44DBE3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93E48-6FFD-48B5-A645-CF754A99A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416F5-2F93-487F-87D9-14200482F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9F887-2D85-4701-BB32-BAC290931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F9B9E-5757-4D7A-832E-CE29AC246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A82BC-A9B3-431D-85DA-80A5CFB6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0990-F623-435F-8870-15E6342D0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E06A-00D5-465E-B615-5F62C0996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EC84-FD14-40FF-A846-5221E4CB1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zpieczne serwery WWW</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95280" y="571464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Prezentację przygotował Artur Hebenstreit</a:t>
            </a:r>
            <a:r>
              <a:rPr b="0" lang="pl-P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tuacje w których zabezpieczenia typu szyfrowanej transmisji danych nie są w stanie sobie poradzić:</a:t>
            </a:r>
            <a:endParaRPr b="0" lang="en-US" sz="2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ie są wstanie ochronić przed niezaszyfrowanymi dokumentam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ie jest wstanie chronić informacji w przypadku wykradzenia kluczy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ie jest wstanie chronić użytkowników przed atakami typu odmowy usług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ie zapewnia ochrony przed modyfikacją programu szyfrująceg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ryptografia nie zabezpiecza przed zdradą i omyłkam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Arial"/>
              </a:rPr>
              <a:t>Instalacja protokołu SSL z serwerem Apache</a:t>
            </a:r>
            <a:r>
              <a:rPr b="1" lang="pl-PL" sz="2400" spc="-1" strike="noStrike">
                <a:solidFill>
                  <a:srgbClr val="000000"/>
                </a:solidFill>
                <a:latin typeface="Arial"/>
              </a:rPr>
              <a:t> założenia:</a:t>
            </a:r>
            <a:endParaRPr b="0" lang="en-US" sz="2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serwer WWW - najpopularniejszym serwerem w tej chwili jest Apache, oprócz tego ma on wielką zaletę: jest darmowy, w naszym przypadku będzie to wersja 1.3.6;</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pakiet SSLeay - jest to implementacja pakietu SSL 3.0 (darmowy), użyjemy wersji openssl wersja 0.9.3 (jest to wersja SSLeay rozpowszechniana na zasadzie licencji OpenSour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patch do serwera WWW - jest to interfejs do SSL: Apache-SSL/1.3.6 Ben-SSL/1.36;</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trzebny jest również Perl, ponieważ wszystkie skrypty instalacyjne SSLeay są napisane w Perl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457200"/>
            <a:ext cx="411480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 skompletowaniu wszystkiego wykonujemy następujące krok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SLe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Rozpakować pakiet SSLe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ar -xzvf openssl-0_9_3_tar.g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Uruchomić skrypt Configure z odpowiednimi parametrami (w najprostszym przypadku jest to wersja systemu operacyjne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Configure linux-el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Wykonać polecen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ke cle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ke depe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mak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Po skompilowaniu pakietu  przetestować poprawność pakietu i zainstalować (domyślny katalog to </a:t>
            </a:r>
            <a:r>
              <a:rPr b="0" i="1" lang="pl-PL" sz="1400" spc="-1" strike="noStrike">
                <a:solidFill>
                  <a:srgbClr val="000000"/>
                </a:solidFill>
                <a:latin typeface="Arial"/>
                <a:ea typeface="Arial"/>
              </a:rPr>
              <a:t>/usr/local/ssl</a:t>
            </a:r>
            <a:r>
              <a:rPr b="0" lang="pl-PL" sz="1400" spc="-1" strike="noStrike">
                <a:solidFill>
                  <a:srgbClr val="000000"/>
                </a:solidFill>
                <a:latin typeface="Arial"/>
                <a:ea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k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ke install</a:t>
            </a:r>
            <a:endParaRPr b="0" lang="en-US" sz="1400" spc="-1" strike="noStrike">
              <a:solidFill>
                <a:srgbClr val="000000"/>
              </a:solidFill>
              <a:latin typeface="Times New Roman"/>
            </a:endParaRPr>
          </a:p>
        </p:txBody>
      </p:sp>
      <p:sp>
        <p:nvSpPr>
          <p:cNvPr id="68" name=""/>
          <p:cNvSpPr/>
          <p:nvPr/>
        </p:nvSpPr>
        <p:spPr>
          <a:xfrm>
            <a:off x="4572000" y="380880"/>
            <a:ext cx="4114800" cy="6440760"/>
          </a:xfrm>
          <a:prstGeom prst="rect">
            <a:avLst/>
          </a:prstGeom>
          <a:noFill/>
          <a:ln w="0">
            <a:noFill/>
          </a:ln>
        </p:spPr>
        <p:style>
          <a:lnRef idx="0"/>
          <a:fillRef idx="0"/>
          <a:effectRef idx="0"/>
          <a:fontRef idx="minor"/>
        </p:style>
        <p:txBody>
          <a:bodyPr lIns="90000" rIns="90000" tIns="46800" bIns="0" anchor="t">
            <a:spAutoFit/>
          </a:bodyPr>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pacheSSL</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a:t>
            </a:r>
            <a:r>
              <a:rPr b="0" lang="pl-PL" sz="1400" spc="-1" strike="noStrike">
                <a:solidFill>
                  <a:srgbClr val="000000"/>
                </a:solidFill>
                <a:latin typeface="Arial"/>
                <a:ea typeface="Times New Roman"/>
              </a:rPr>
              <a:t> </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Rozpakować archiwum Apache:</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ar -xzvf apache_1.3.6-i586-whatever-linux2.tar.gz</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cd apache_1.3.6</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Rozpakować patch do serwera:</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ar -xzvf apache_1_3_6+ssl_1_36_tar.gz</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Uruchomić FixPatch (patch z SSLeay do ApacheSSL):</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ixPatch</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Uruchomić skrypt configure, który utworzy odpowiednie Makefile, aby podać ścieżkę gdzie ma zostać zainstalowany ApacheSSL podajemy tzw. prefix. W przypadku dystrybucji Slackware, Apache jest zainstalowany w </a:t>
            </a:r>
            <a:r>
              <a:rPr b="0" i="1" lang="pl-PL" sz="1400" spc="-1" strike="noStrike">
                <a:solidFill>
                  <a:srgbClr val="000000"/>
                </a:solidFill>
                <a:latin typeface="Arial"/>
                <a:ea typeface="Arial"/>
              </a:rPr>
              <a:t>/var/lib/apache</a:t>
            </a:r>
            <a:r>
              <a:rPr b="0" lang="pl-PL" sz="1400" spc="-1" strike="noStrike">
                <a:solidFill>
                  <a:srgbClr val="000000"/>
                </a:solidFill>
                <a:latin typeface="Arial"/>
                <a:ea typeface="Arial"/>
              </a:rPr>
              <a:t>:</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onfigure --prefix=/var/lib/apache_ssl</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5.</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Wykonać polecenia:</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make</a:t>
            </a:r>
            <a:endParaRPr b="0" lang="en-US" sz="1400" spc="-1" strike="noStrike">
              <a:solidFill>
                <a:srgbClr val="000000"/>
              </a:solidFill>
              <a:latin typeface="Times New Roman"/>
            </a:endParaRPr>
          </a:p>
          <a:p>
            <a:pPr marL="455760" indent="-4557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make install</a:t>
            </a:r>
            <a:r>
              <a:rPr b="0" lang="pl-P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04920"/>
            <a:ext cx="350496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Certyfikaty</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Stworzyć odpowiednie certyfikaty. W wyniku tej operacji w katalogu </a:t>
            </a:r>
            <a:r>
              <a:rPr b="0" i="1" lang="pl-PL" sz="1400" spc="-1" strike="noStrike">
                <a:solidFill>
                  <a:srgbClr val="000000"/>
                </a:solidFill>
                <a:latin typeface="Arial"/>
                <a:ea typeface="Arial"/>
              </a:rPr>
              <a:t>SSLconf/conf/ </a:t>
            </a:r>
            <a:r>
              <a:rPr b="0" lang="pl-PL" sz="1400" spc="-1" strike="noStrike">
                <a:solidFill>
                  <a:srgbClr val="000000"/>
                </a:solidFill>
                <a:latin typeface="Arial"/>
                <a:ea typeface="Arial"/>
              </a:rPr>
              <a:t>powstanie plik </a:t>
            </a:r>
            <a:r>
              <a:rPr b="0" i="1" lang="pl-PL" sz="1400" spc="-1" strike="noStrike">
                <a:solidFill>
                  <a:srgbClr val="000000"/>
                </a:solidFill>
                <a:latin typeface="Arial"/>
                <a:ea typeface="Arial"/>
              </a:rPr>
              <a:t>httpsd.pem </a:t>
            </a:r>
            <a:r>
              <a:rPr b="0" lang="pl-PL" sz="1400" spc="-1" strike="noStrike">
                <a:solidFill>
                  <a:srgbClr val="000000"/>
                </a:solidFill>
                <a:latin typeface="Arial"/>
                <a:ea typeface="Arial"/>
              </a:rPr>
              <a:t>zwierający klucz prywatny i certyfikat podpisany kluczem prywatnym:</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d src</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ke certificate</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Uruchomienie serwera</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Skopiować katalog </a:t>
            </a:r>
            <a:r>
              <a:rPr b="0" i="1" lang="pl-PL" sz="1400" spc="-1" strike="noStrike">
                <a:solidFill>
                  <a:srgbClr val="000000"/>
                </a:solidFill>
                <a:latin typeface="Arial"/>
                <a:ea typeface="Arial"/>
              </a:rPr>
              <a:t>SSLconf</a:t>
            </a:r>
            <a:r>
              <a:rPr b="0" lang="pl-PL" sz="1400" spc="-1" strike="noStrike">
                <a:solidFill>
                  <a:srgbClr val="000000"/>
                </a:solidFill>
                <a:latin typeface="Arial"/>
                <a:ea typeface="Arial"/>
              </a:rPr>
              <a:t> do katalogu roboczego serwera WWW:</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p SSLConf /var/lib/apache_ssl/ -R</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Skopiować przykładowy plik konfiguracyjny serwera:</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p /var/lib/apache_ssl/SSLConf/conf/httpd.conf /var/lib/apache_ssl/conf/httpsd.conf</a:t>
            </a:r>
            <a:r>
              <a:rPr b="0" lang="pl-P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 name=""/>
          <p:cNvSpPr/>
          <p:nvPr/>
        </p:nvSpPr>
        <p:spPr>
          <a:xfrm>
            <a:off x="4038480" y="3733920"/>
            <a:ext cx="426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Ry</a:t>
            </a:r>
            <a:r>
              <a:rPr b="0" lang="pl-PL" sz="1200" spc="-1" strike="noStrike">
                <a:solidFill>
                  <a:srgbClr val="000000"/>
                </a:solidFill>
                <a:latin typeface="Arial"/>
              </a:rPr>
              <a:t>s</a:t>
            </a:r>
            <a:r>
              <a:rPr b="0" lang="pl-PL" sz="1200" spc="-1" strike="noStrike">
                <a:solidFill>
                  <a:srgbClr val="000000"/>
                </a:solidFill>
                <a:latin typeface="Arial"/>
                <a:ea typeface="Arial"/>
              </a:rPr>
              <a:t>. 3. Okno dialogowe Netscape 4.7 przedstawiające informację o nowym site’cie korzystającym z SSL.</a:t>
            </a:r>
            <a:r>
              <a:rPr b="0" lang="pl-PL"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71" name="image005" descr=""/>
          <p:cNvPicPr/>
          <p:nvPr/>
        </p:nvPicPr>
        <p:blipFill>
          <a:blip r:embed="rId1"/>
          <a:stretch/>
        </p:blipFill>
        <p:spPr>
          <a:xfrm>
            <a:off x="4038480" y="609480"/>
            <a:ext cx="4648320" cy="301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838080"/>
            <a:ext cx="78487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ea typeface="Arial"/>
              </a:rPr>
              <a:t>.</a:t>
            </a:r>
            <a:r>
              <a:rPr b="0" lang="pl-PL" sz="1400" spc="-1" strike="noStrike">
                <a:solidFill>
                  <a:srgbClr val="000000"/>
                </a:solidFill>
                <a:latin typeface="Times New Roman"/>
                <a:ea typeface="Times New Roman"/>
              </a:rPr>
              <a:t>  </a:t>
            </a:r>
            <a:r>
              <a:rPr b="0" lang="pl-PL" sz="700" spc="-1" strike="noStrike">
                <a:solidFill>
                  <a:srgbClr val="000000"/>
                </a:solidFill>
                <a:latin typeface="Times New Roman"/>
                <a:ea typeface="Times New Roman"/>
              </a:rPr>
              <a:t> </a:t>
            </a:r>
            <a:r>
              <a:rPr b="0" lang="pl-PL" sz="1400" spc="-1" strike="noStrike">
                <a:solidFill>
                  <a:srgbClr val="000000"/>
                </a:solidFill>
                <a:latin typeface="Arial"/>
                <a:ea typeface="Arial"/>
              </a:rPr>
              <a:t>Wyedytować plik </a:t>
            </a:r>
            <a:r>
              <a:rPr b="0" i="1" lang="pl-PL" sz="1400" spc="-1" strike="noStrike">
                <a:solidFill>
                  <a:srgbClr val="000000"/>
                </a:solidFill>
                <a:latin typeface="Arial"/>
                <a:ea typeface="Arial"/>
              </a:rPr>
              <a:t>httpsd.conf </a:t>
            </a:r>
            <a:r>
              <a:rPr b="0" lang="pl-PL" sz="1400" spc="-1" strike="noStrike">
                <a:solidFill>
                  <a:srgbClr val="000000"/>
                </a:solidFill>
                <a:latin typeface="Arial"/>
                <a:ea typeface="Arial"/>
              </a:rPr>
              <a:t>i podać prawidłowe dane (przy założeniu, że serwer znajduje się w </a:t>
            </a:r>
            <a:r>
              <a:rPr b="0" i="1" lang="pl-PL" sz="1400" spc="-1" strike="noStrike">
                <a:solidFill>
                  <a:srgbClr val="000000"/>
                </a:solidFill>
                <a:latin typeface="Arial"/>
                <a:ea typeface="Arial"/>
              </a:rPr>
              <a:t>/var/lib/apache_ssl/ </a:t>
            </a:r>
            <a:r>
              <a:rPr b="0" lang="pl-PL" sz="1400" spc="-1" strike="noStrike">
                <a:solidFill>
                  <a:srgbClr val="000000"/>
                </a:solidFill>
                <a:latin typeface="Arial"/>
                <a:ea typeface="Arial"/>
              </a:rPr>
              <a:t>i ma działać na standardowym porcie SSL 443):</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er nobody</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up users</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rt 443</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isten 443</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ocumentRoot /var/lib/apache_ssl/htdocs/</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Arial"/>
              </a:rPr>
              <a:t>SSLCacheServerPath /var/lib/apache_ssl/bin/gcache</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SLCACertificatePath /var/lib/apache_ssl/SSLConf/conf</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SLCertificateFile /var/lib/apache_ssl/SSLConf/conf/httpsd.pem</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Arial"/>
              </a:rPr>
              <a:t>ScriptAlias /cgi-bin</a:t>
            </a:r>
            <a:r>
              <a:rPr b="0" i="1" lang="de-DE" sz="1400" spc="-1" strike="noStrike">
                <a:solidFill>
                  <a:srgbClr val="000000"/>
                </a:solidFill>
                <a:latin typeface="Arial"/>
                <a:ea typeface="Arial"/>
              </a:rPr>
              <a:t>	</a:t>
            </a:r>
            <a:r>
              <a:rPr b="0" i="1" lang="de-DE" sz="1400" spc="-1" strike="noStrike">
                <a:solidFill>
                  <a:srgbClr val="000000"/>
                </a:solidFill>
                <a:latin typeface="Arial"/>
                <a:ea typeface="Arial"/>
              </a:rPr>
              <a:t>/var/lib/apache_ssl/cgi-bin/</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ea typeface="Arial"/>
              </a:rPr>
              <a:t>.</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Uruchomić serwer:</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var/lib/apache_ssl/bin/httpsd</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a:t>
            </a:r>
            <a:r>
              <a:rPr b="0" lang="pl-PL" sz="1400" spc="-1" strike="noStrike">
                <a:solidFill>
                  <a:srgbClr val="000000"/>
                </a:solidFill>
                <a:latin typeface="Arial"/>
                <a:ea typeface="Arial"/>
              </a:rPr>
              <a:t>.</a:t>
            </a:r>
            <a:r>
              <a:rPr b="0" lang="pl-PL" sz="1400" spc="-1" strike="noStrike">
                <a:solidFill>
                  <a:srgbClr val="000000"/>
                </a:solidFill>
                <a:latin typeface="Times New Roman"/>
                <a:ea typeface="Times New Roman"/>
              </a:rPr>
              <a:t>      </a:t>
            </a:r>
            <a:r>
              <a:rPr b="0" lang="pl-PL" sz="1400" spc="-1" strike="noStrike">
                <a:solidFill>
                  <a:srgbClr val="000000"/>
                </a:solidFill>
                <a:latin typeface="Arial"/>
                <a:ea typeface="Arial"/>
              </a:rPr>
              <a:t>Sprawdzić działanie serwera:</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https://localhost/</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zystkie elementy potrzebne do zainstalowania serwera WWW z SSL można znaleźć np. na ftp://sunsite.icm.edu.pl/</a:t>
            </a:r>
            <a:r>
              <a:rPr b="0" lang="pl-P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prezentacji :</a:t>
            </a:r>
            <a:endParaRPr b="0" lang="en-US" sz="2800" spc="-1" strike="noStrike">
              <a:solidFill>
                <a:srgbClr val="000000"/>
              </a:solidFill>
              <a:latin typeface="Times New Roman"/>
            </a:endParaRPr>
          </a:p>
        </p:txBody>
      </p:sp>
      <p:sp>
        <p:nvSpPr>
          <p:cNvPr id="44" name="PlaceHolder 2"/>
          <p:cNvSpPr>
            <a:spLocks noGrp="1"/>
          </p:cNvSpPr>
          <p:nvPr>
            <p:ph/>
          </p:nvPr>
        </p:nvSpPr>
        <p:spPr>
          <a:xfrm>
            <a:off x="1447920" y="1904760"/>
            <a:ext cx="7238880" cy="25146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stęp „Bezpieczny Serwer WWW”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a:solidFill>
                  <a:srgbClr val="000000"/>
                </a:solidFill>
                <a:latin typeface="Arial"/>
                <a:ea typeface="Arial"/>
              </a:rPr>
              <a:t>agrożenia związane z posiadaniem serwera WWW</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a:solidFill>
                  <a:srgbClr val="000000"/>
                </a:solidFill>
                <a:latin typeface="Arial"/>
                <a:ea typeface="Arial"/>
              </a:rPr>
              <a:t>ezpieczeństwo serwerów WWW, mechanizmy, sposoby zabezpieczeń</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a:solidFill>
                  <a:srgbClr val="000000"/>
                </a:solidFill>
                <a:latin typeface="Arial"/>
                <a:ea typeface="Arial"/>
              </a:rPr>
              <a:t>erwer WWW SSL – APATCHE SSL – instalacja</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dsumowani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ytania na które należy odpowiedzieć sobie przy tworzeniu bezpiecznego serwera WWW:</a:t>
            </a:r>
            <a:endParaRPr b="0" lang="en-US" sz="2400" spc="-1" strike="noStrike">
              <a:solidFill>
                <a:srgbClr val="000000"/>
              </a:solidFill>
              <a:latin typeface="Times New Roman"/>
            </a:endParaRPr>
          </a:p>
        </p:txBody>
      </p:sp>
      <p:sp>
        <p:nvSpPr>
          <p:cNvPr id="46" name="PlaceHolder 2"/>
          <p:cNvSpPr>
            <a:spLocks noGrp="1"/>
          </p:cNvSpPr>
          <p:nvPr>
            <p:ph/>
          </p:nvPr>
        </p:nvSpPr>
        <p:spPr>
          <a:xfrm>
            <a:off x="1447920" y="1905120"/>
            <a:ext cx="7238880" cy="358128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 kogo są kierowane dane znajdujące się na niniejszym serwerze ?</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to powinien mieć dostęp do danych na niniejszym serwerze ? </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zy dostęp powinien być dla wszystkich użytkowników czy też powinien być tylko i wyłącznie dla użytkowników autoryzowanych ?</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 jaki sposób powinna być realizowana transmisja danych między serwerem a użytkownikiem ?</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akiego rodzaju testom należało by podać oprogramowanie serwera WWW przed jego zainstalowaniem ?</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 jaki sposób instytucja zarządzająca serwerem powinna reagować na przypadki naruszenia bezpieczeństwa?</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Jak i kiedy należy aktualizować założenia strategii bezpieczeństwa ?</a:t>
            </a:r>
            <a:r>
              <a:rPr b="0" lang="en-US" sz="1600" spc="-1" strike="noStrike">
                <a:solidFill>
                  <a:srgbClr val="000000"/>
                </a:solidFill>
                <a:latin typeface="Arial"/>
                <a:ea typeface="Arial Unicode MS"/>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siem powszechnych praktyk osłabiających bezpieczeństwo serwerów:</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iedostateczne przemyślenie zagadnień bezpieczeństwa jako podstawowego elementu procesu projektowania i konfiguracji systemów</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zesyłanie siecią Internet niezaszyfrowanych haseł i wielokrotne używanie tych samych haseł</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iewykorzystywanie dodatkowych narzędzi zabezpieczających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osowanie oprogramowania niesprawdzonego posiadającego bardzo dużo tzw. dziur</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niechanie śledzenia postępu w dziedzinie zabezpieczeń i podejmowania odpowiednich akcji zapobiegawczych</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ak odpowiednich procedur rejestrowania czynności wykonywanych w systemie</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ak odpowiednich procedur archiwizacji i tworzenia kopii zapasowych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ak monitorowania działalności systemu i wykorzystywania sieci</a:t>
            </a:r>
            <a:r>
              <a:rPr b="0" lang="en-US" sz="1800" spc="-1" strike="noStrike">
                <a:solidFill>
                  <a:srgbClr val="000000"/>
                </a:solidFill>
                <a:latin typeface="Arial"/>
              </a:rPr>
              <a:t>;</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jczęściej spotykane rodzaje włamań i ataków:</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Atak przy pomocy podsłuchanego hasła;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Atak przy pomocy słabych punktów oprogramowania</a:t>
            </a:r>
            <a:r>
              <a:rPr b="0" lang="pl-PL" sz="1800" spc="-1" strike="noStrike">
                <a:solidFill>
                  <a:srgbClr val="000000"/>
                </a:solidFill>
                <a:latin typeface="Arial"/>
              </a:rPr>
              <a:t> </a:t>
            </a:r>
            <a:r>
              <a:rPr b="0" lang="pl-PL" sz="1800" spc="-1" strike="noStrike">
                <a:solidFill>
                  <a:srgbClr val="000000"/>
                </a:solidFill>
                <a:latin typeface="Arial"/>
                <a:ea typeface="Arial"/>
              </a:rPr>
              <a:t>serwerów WWW, tzw. dziury w oprogramowaniu;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Wykorzystanie błędnie napisanego np. skryptu CG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Wykorzystanie dziur, błędów w projekcie języków programowania np. Javi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a:t>
            </a:r>
            <a:r>
              <a:rPr b="0" lang="pl-PL" sz="1800" spc="-1" strike="noStrike">
                <a:solidFill>
                  <a:srgbClr val="000000"/>
                </a:solidFill>
                <a:latin typeface="Arial"/>
                <a:ea typeface="Arial"/>
              </a:rPr>
              <a:t>raz inne rodzaje ataków związane np. przechwyceniem połączenia, metodą powtórzenia</a:t>
            </a:r>
            <a:r>
              <a:rPr b="0" lang="pl-PL" sz="1800" spc="-1" strike="noStrike">
                <a:solidFill>
                  <a:srgbClr val="000000"/>
                </a:solidFill>
                <a:latin typeface="Arial"/>
              </a:rPr>
              <a:t> i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soby ograniczania zagrożeń :</a:t>
            </a:r>
            <a:endParaRPr b="0" lang="en-US" sz="2400" spc="-1" strike="noStrike">
              <a:solidFill>
                <a:srgbClr val="000000"/>
              </a:solidFill>
              <a:latin typeface="Times New Roman"/>
            </a:endParaRPr>
          </a:p>
        </p:txBody>
      </p:sp>
      <p:sp>
        <p:nvSpPr>
          <p:cNvPr id="52" name="PlaceHolder 2"/>
          <p:cNvSpPr>
            <a:spLocks noGrp="1"/>
          </p:cNvSpPr>
          <p:nvPr>
            <p:ph/>
          </p:nvPr>
        </p:nvSpPr>
        <p:spPr>
          <a:xfrm>
            <a:off x="609480" y="1142640"/>
            <a:ext cx="7772400" cy="1981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graniczenie dostępu do serwerów (dostęp dla określonej rzeszy użytkowników)</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zyfrowane transmisje danych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jestrowanie operacji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worzenie kopii zapasowych </a:t>
            </a:r>
            <a:endParaRPr b="0" lang="en-US" sz="2000" spc="-1" strike="noStrike">
              <a:solidFill>
                <a:srgbClr val="000000"/>
              </a:solidFill>
              <a:latin typeface="Times New Roman"/>
            </a:endParaRPr>
          </a:p>
        </p:txBody>
      </p:sp>
      <p:sp>
        <p:nvSpPr>
          <p:cNvPr id="53" name=""/>
          <p:cNvSpPr/>
          <p:nvPr/>
        </p:nvSpPr>
        <p:spPr>
          <a:xfrm>
            <a:off x="762120" y="3352680"/>
            <a:ext cx="777240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soby ograniczania dostępu do serwerów WWW i ich zawartości :</a:t>
            </a:r>
            <a:endParaRPr b="0" lang="en-US" sz="2400" spc="-1" strike="noStrike">
              <a:solidFill>
                <a:srgbClr val="000000"/>
              </a:solidFill>
              <a:latin typeface="Times New Roman"/>
            </a:endParaRPr>
          </a:p>
        </p:txBody>
      </p:sp>
      <p:sp>
        <p:nvSpPr>
          <p:cNvPr id="54" name=""/>
          <p:cNvSpPr/>
          <p:nvPr/>
        </p:nvSpPr>
        <p:spPr>
          <a:xfrm>
            <a:off x="685800" y="4267080"/>
            <a:ext cx="77724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graniczenie dostępu przez stosowanie niejawnych (ukrytych) adresów URL nie podawanych do publicznej wiadomośc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graniczenie dostępu na podstawie adresu autoryzowanego użytkownik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graniczenie dostępu do wybranych użytkowników przez kontrolę tożsamości</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orzyści płynące ze stosowania szyfrowanych połączeń stosowanych z serwerami WWW:</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mniejszenie możliwości podsłuchania transmisji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aktycznie uniemożliwienie rozkodowania np. podsłuchanej transmisji co jednocześnie uniemożliwia przechwycenie czyjegoś hasła it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soby, którym udało się włamać na serwer WWW nie są w stanie odczytać informacji tam zawartyc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ministrator może  żądać cyfrowego podpisu podczas modyfikacji strony co uniemożliwia podesłanie zmienionych danych przez osoby nieupoważnio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jczęściej stosowanymi systemami </a:t>
            </a:r>
            <a:r>
              <a:rPr b="1" lang="en-US" sz="2400" spc="-1" strike="noStrike">
                <a:solidFill>
                  <a:srgbClr val="000000"/>
                </a:solidFill>
                <a:latin typeface="Arial"/>
              </a:rPr>
              <a:t>(protokołami)</a:t>
            </a:r>
            <a:r>
              <a:rPr b="1" lang="en-US" sz="2400" spc="-1" strike="noStrike">
                <a:solidFill>
                  <a:srgbClr val="000000"/>
                </a:solidFill>
                <a:latin typeface="Arial"/>
                <a:ea typeface="Arial"/>
              </a:rPr>
              <a:t> </a:t>
            </a:r>
            <a:r>
              <a:rPr b="1" lang="en-US" sz="2400" spc="-1" strike="noStrike">
                <a:solidFill>
                  <a:srgbClr val="000000"/>
                </a:solidFill>
                <a:latin typeface="Arial"/>
              </a:rPr>
              <a:t>stosowanymi przy serwerach </a:t>
            </a:r>
            <a:r>
              <a:rPr b="1" lang="en-US" sz="2400" spc="-1" strike="noStrike">
                <a:solidFill>
                  <a:srgbClr val="000000"/>
                </a:solidFill>
                <a:latin typeface="Arial"/>
                <a:ea typeface="Arial"/>
              </a:rPr>
              <a:t>WWW </a:t>
            </a:r>
            <a:r>
              <a:rPr b="1" lang="en-US" sz="2400" spc="-1" strike="noStrike">
                <a:solidFill>
                  <a:srgbClr val="000000"/>
                </a:solidFill>
                <a:latin typeface="Arial"/>
              </a:rPr>
              <a:t>są:</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Times New Roman"/>
              </a:rPr>
              <a:t>SSL – jest protokołem kryptograficznym ogólnego przeznaczenia przeznaczonym do ochrony dwukierunkowych kanałów komunikacyjnych. Protokół SSL jest najczęściej wykorzystywany wraz z protokołem TCP/IP. Połączenie SSL inicjowane jest  zazwyczaj przez przeglądarkę WWW w wyniku uzycia specjalnego prefiksu adresu URL. Do tworzenia połączeń HTTP szyfrowanych przy pomocy SSL używany jest prefiks https; SSL oferuje poufność dzięki wykorzystaniu wybranych przez użytkownika .</a:t>
            </a:r>
            <a:r>
              <a:rPr b="0" lang="pl-PL" sz="1600" spc="-1" strike="noStrike">
                <a:solidFill>
                  <a:srgbClr val="000000"/>
                </a:solidFill>
                <a:latin typeface="Arial"/>
              </a:rPr>
              <a:t> </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S-HTTP – jest systemem służącym do podpisywania i szyfrowania informacji przesyłanych za pomocą protokołu HTTP. Został on zaprojektowany przed wprowadzeniem do użytku SSL. Posiada on kilka ciekawych możliwości takich jak przechowywania na serwerze podpisanych cyfrowo dokumentów. Jednakże jest on w zasadzie rozwiązaniem teoretycznym, gdyż ani Netscape ani Microsoft nie zaimplementował go w swoich przeglądarkach.</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Times New Roman"/>
              </a:rPr>
              <a:t>PCT- jest zbliżonym do SSL protokołem zabezpieczającym dla warstwy transportowej, opracowany przez firmę Microsoft. Skrót oznacza Private Communications Technology. Został opracowany po stwierdzeniu pewnych problemów w wersji 2.0 protokołu SSL.</a:t>
            </a:r>
            <a:r>
              <a:rPr b="0" lang="pl-PL"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zykładowe serwery WWW posiadające wbudowany protokół SSL:</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520"/>
            <a:ext cx="7772400" cy="12193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Apatche-SS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Sioux</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Stronghol</a:t>
            </a:r>
            <a:r>
              <a:rPr b="0" lang="pl-PL" sz="2000" spc="-1" strike="noStrike">
                <a:solidFill>
                  <a:srgbClr val="000000"/>
                </a:solidFill>
                <a:latin typeface="Arial"/>
              </a:rPr>
              <a:t>d</a:t>
            </a:r>
            <a:endParaRPr b="0" lang="en-US" sz="2000" spc="-1" strike="noStrike">
              <a:solidFill>
                <a:srgbClr val="000000"/>
              </a:solidFill>
              <a:latin typeface="Times New Roman"/>
            </a:endParaRPr>
          </a:p>
        </p:txBody>
      </p:sp>
      <p:sp>
        <p:nvSpPr>
          <p:cNvPr id="61" name=""/>
          <p:cNvSpPr/>
          <p:nvPr/>
        </p:nvSpPr>
        <p:spPr>
          <a:xfrm>
            <a:off x="685800" y="2666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zykładowe ataki przed którymi zabezpieczone są serwery posiadające protokół SSL:</a:t>
            </a:r>
            <a:endParaRPr b="0" lang="en-US" sz="2400" spc="-1" strike="noStrike">
              <a:solidFill>
                <a:srgbClr val="000000"/>
              </a:solidFill>
              <a:latin typeface="Times New Roman"/>
            </a:endParaRPr>
          </a:p>
        </p:txBody>
      </p:sp>
      <p:sp>
        <p:nvSpPr>
          <p:cNvPr id="62" name=""/>
          <p:cNvSpPr/>
          <p:nvPr/>
        </p:nvSpPr>
        <p:spPr>
          <a:xfrm>
            <a:off x="762120" y="3733920"/>
            <a:ext cx="77724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zechwycenia połączenia – poprzez zastosowanie certyfikatów cyfrowych pozwalających na ujawnienie zweryfikowanej nazwy witryny WWW</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owtórzenia (replay attack) – polega na tym iż napastnik przechwytuje przekazywane wiadomości i wielokrotnie je powtarza, np. napastnik może przechwycić żądanie dokonania płatności przesyłane przez użytkownika do instytucji finansowej;  powtórzenie takiej wiadomości mogłoby zmusić system docelowy do zrealizowania kilku takich samych transakcji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3:48:05Z</dcterms:created>
  <dc:creator>Max Hunter</dc:creator>
  <dc:description/>
  <dc:language>en-US</dc:language>
  <cp:lastModifiedBy>Max Hunter</cp:lastModifiedBy>
  <dcterms:modified xsi:type="dcterms:W3CDTF">2000-12-04T15:28:50Z</dcterms:modified>
  <cp:revision>13</cp:revision>
  <dc:subject/>
  <dc:title>Bezpieczne serwery WWW</dc:title>
</cp:coreProperties>
</file>